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2.wmf" ContentType="image/x-wmf"/>
  <Override PartName="/ppt/media/image11.jpeg" ContentType="image/jpeg"/>
  <Override PartName="/ppt/media/image9.jpeg" ContentType="image/jpeg"/>
  <Override PartName="/ppt/media/image18.jpeg" ContentType="image/jpeg"/>
  <Override PartName="/ppt/media/image17.wmf" ContentType="image/x-wmf"/>
  <Override PartName="/ppt/media/image16.jpeg" ContentType="image/jpeg"/>
  <Override PartName="/ppt/media/image14.wmf" ContentType="image/x-wmf"/>
  <Override PartName="/ppt/media/image1.png" ContentType="image/png"/>
  <Override PartName="/ppt/media/image2.png" ContentType="image/png"/>
  <Override PartName="/ppt/media/image3.wmf" ContentType="image/x-wmf"/>
  <Override PartName="/ppt/media/image13.jpeg" ContentType="image/jpeg"/>
  <Override PartName="/ppt/media/image4.wmf" ContentType="image/x-wmf"/>
  <Override PartName="/ppt/media/image15.gif" ContentType="image/gif"/>
  <Override PartName="/ppt/media/image7.jpeg" ContentType="image/jpeg"/>
  <Override PartName="/ppt/media/image5.wmf" ContentType="image/x-wmf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687-9D5B-414E-B6DB-E52B0CD98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793E-5DD4-4C39-AA87-70A4152D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9A84-FAE0-44D1-9AD9-F0BA8A106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FDA2-D5A8-48D1-BB3E-2A2844FA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0EE-8DEB-4CF0-83B5-8687FBC4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18D-6CCE-48F8-877E-9C13FD97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6466-4CD5-4EA6-B8B5-274D0F23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7B7-C722-4DE2-969D-7FCED5D8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3B10-F185-41A6-9F01-B4E661B1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023-BAE3-470B-BCD2-F048AC88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C2A0-5C73-4940-AB3F-37118C90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D93-0123-477A-91E1-20574DFB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D7AAF-F4A9-461E-8E20-18D2A9871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mages.google.com/imgres?imgurl=http://pictures.spacebar.org/images/jello2004/extreme-jello.jpg&amp;imgrefurl=http://pictures.spacebar.org/f/a/photo/viewpic/2/238/1/&amp;h=531&amp;w=800&amp;sz=42&amp;hl=en&amp;start=6&amp;tbnid=diCGr3SG-_F8-M:&amp;tbnh=95&amp;tbnw=143&amp;prev=/images%3Fq%3Djello%26svnum%3D10%26hl%3Den%26lr%3D%26sa%3DN" TargetMode="External"/><Relationship Id="rId3" Type="http://schemas.openxmlformats.org/officeDocument/2006/relationships/image" Target="../media/image13.jpeg"/><Relationship Id="rId4" Type="http://schemas.openxmlformats.org/officeDocument/2006/relationships/image" Target="../media/image14.wmf"/><Relationship Id="rId5" Type="http://schemas.openxmlformats.org/officeDocument/2006/relationships/image" Target="../media/image15.gif"/><Relationship Id="rId6" Type="http://schemas.openxmlformats.org/officeDocument/2006/relationships/image" Target="../media/image16.jpeg"/><Relationship Id="rId7" Type="http://schemas.openxmlformats.org/officeDocument/2006/relationships/image" Target="../media/image17.wmf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Century Gothic"/>
              </a:rPr>
              <a:t>VOCAB SECTIONS </a:t>
            </a:r>
            <a:br>
              <a:rPr sz="6000"/>
            </a:br>
            <a:r>
              <a:rPr b="0" i="1" lang="en-US" sz="6000" spc="-1" strike="noStrike">
                <a:solidFill>
                  <a:srgbClr val="000000"/>
                </a:solidFill>
                <a:latin typeface="Century Gothic"/>
              </a:rPr>
              <a:t>1-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y Alice, Guerry, and Elean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10 Points: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Match the picture with the right wor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ssem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top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Ver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eck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iqu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58000" y="4800600"/>
            <a:ext cx="1538280" cy="160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29400" y="3048120"/>
            <a:ext cx="1666800" cy="155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267080" y="4572000"/>
            <a:ext cx="1747800" cy="1673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581280" y="2362320"/>
            <a:ext cx="2514600" cy="1436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553080" y="91440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657600" y="5867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5791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458200" y="43434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10480" y="2514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10 Points Cont.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rac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lc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u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Prop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238880" y="121932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7086600" y="3505320"/>
            <a:ext cx="1619280" cy="2023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4267080" y="1600200"/>
            <a:ext cx="1828800" cy="1219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2819520" y="3124080"/>
            <a:ext cx="2712960" cy="1808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4876920" y="5105520"/>
            <a:ext cx="1574640" cy="1560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419720" y="61722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52578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28600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5800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62720" y="44956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10 Point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ng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aci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sch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connaiss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nco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u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05720" y="1676520"/>
            <a:ext cx="1361880" cy="904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324480" y="24382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010280" y="2971800"/>
            <a:ext cx="916200" cy="11271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077320" y="3962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7742160" y="4800600"/>
            <a:ext cx="782640" cy="106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315200" y="57913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6"/>
          <a:stretch/>
        </p:blipFill>
        <p:spPr>
          <a:xfrm>
            <a:off x="5029200" y="4495680"/>
            <a:ext cx="1494000" cy="995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495680" y="533412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5105520" y="2971800"/>
            <a:ext cx="1041120" cy="1046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724280" y="3581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8"/>
          <a:stretch/>
        </p:blipFill>
        <p:spPr>
          <a:xfrm>
            <a:off x="3352680" y="1371600"/>
            <a:ext cx="1646280" cy="13161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105520" y="22860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entury Gothic"/>
              </a:rPr>
              <a:t>20 points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: Synonyms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tch the correct word with its syn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Unwo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rimor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Ev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efar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447920"/>
            <a:ext cx="3657600" cy="52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hibit, manifest, occa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riginal, Prim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usual, uncommon, atyp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preh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20 Points Con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el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rro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cendi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mmar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erbi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mand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Promptness,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irebrand, provoc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brup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erbosity, diction, jar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30 points: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Antonyms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tch the word with its antony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a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rti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ubstant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xh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ret, co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resh, novel, original,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o mum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Bury, 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fute, disprove, invali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30 Points Con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e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istr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e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Direct, straight forward, o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defen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diffe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ow-keyed, m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3:28:53Z</dcterms:created>
  <dc:creator>User</dc:creator>
  <dc:description/>
  <dc:language>en-US</dc:language>
  <cp:lastModifiedBy>User</cp:lastModifiedBy>
  <dcterms:modified xsi:type="dcterms:W3CDTF">2006-10-10T13:25:19Z</dcterms:modified>
  <cp:revision>4</cp:revision>
  <dc:subject/>
  <dc:title>VOCAB SECTIONS 1-3</dc:title>
</cp:coreProperties>
</file>